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3C5B-080A-4156-AA38-C1F0881D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B3C-224A-4DCC-9D9A-B7A627F3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EE6-BD54-4ADC-8F97-A2EB4B56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9043-02A7-4977-82C1-378A6482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B6F5-8939-4976-8F57-02E47DEB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E4DF-D32C-4A23-AF9C-0DA8126E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7454-E488-49AD-A87E-E3E6FD3B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9861-46B1-46FD-A733-DC2EBAEF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851F-05C9-4A62-8B3A-00DAD3E2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3E73-893A-43CB-A99F-01F6FCE8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8606-7CB3-4B41-9A83-F5E97180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DBCE-1BFC-4B03-9E22-F6715CBC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C608-1076-4D97-ADC7-0C2A258F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2F4D-9033-488E-ACB9-E8AABB6B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5DE6-ABCE-42FA-85DA-859523B4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3F89-1E75-4AC1-A4F0-F0748327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8E47-CA2A-44E2-93CC-71991724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7F7-81AA-4C4A-ABE6-2038C5CA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85A-7ADB-4F24-AF63-A9DBA3D7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F11-A032-4EEC-A199-93AB1542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2C87-C451-422D-ABE9-651CF264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807-B842-49FF-9BF6-B0954B1E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BEC9-C75A-4F1B-A9EC-7DF0B8BD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4DAA-97AA-48FA-B576-71983310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1120-A239-4538-85CC-A4F448FB0987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D1E0-8286-4B01-A29B-3677DC55463D}" type="slidenum">
              <a:rPr b="0" lang="hu-H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Book Antiqua"/>
              </a:rPr>
              <a:t>Közösségi szolgálat a könyvtárakban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4190760"/>
            <a:ext cx="6553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yőri Krisztina—Lencsés Ák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KSH Könyvtá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1309680" cy="19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985920" cy="5638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48320" y="457200"/>
            <a:ext cx="3294000" cy="2189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648320" y="3962520"/>
            <a:ext cx="4076640" cy="2708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6400800" y="2590920"/>
            <a:ext cx="2743200" cy="1822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040280" cy="5715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28720" y="3941640"/>
            <a:ext cx="3294000" cy="2189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371600" y="304920"/>
            <a:ext cx="3314880" cy="2201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52280" y="2209680"/>
            <a:ext cx="32943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Book Antiqua"/>
              </a:rPr>
              <a:t>Köszönjük a figyelmet!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76160" y="2666880"/>
            <a:ext cx="6553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Győri Krisz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Krisztina.Gyori@ksh.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Lencsés Ák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Book Antiqua"/>
              </a:rPr>
              <a:t>Akos.Lencses@ksh.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3809880"/>
            <a:ext cx="1084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011. évi CXC. törvény a nemzeti köznevelésről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Garamond"/>
              </a:rPr>
              <a:t>A közösségi szolgálat: szociális, környezetvédelmi, a tanuló helyi közösségének javát szolgáló, szervezett keretek között folytatott, anyagi érdektől független, egyéni vagy csoportos tevékenység és annak pedagógiai feldolgozá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2006-os EP-aj</a:t>
            </a:r>
            <a:r>
              <a:rPr b="0" lang="hu-HU" sz="4200" spc="-1" strike="noStrike">
                <a:solidFill>
                  <a:srgbClr val="006633"/>
                </a:solidFill>
                <a:latin typeface="Garamond"/>
              </a:rPr>
              <a:t>á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l</a:t>
            </a:r>
            <a:r>
              <a:rPr b="0" lang="hu-HU" sz="4200" spc="-1" strike="noStrike">
                <a:solidFill>
                  <a:srgbClr val="006633"/>
                </a:solidFill>
                <a:latin typeface="Garamond"/>
              </a:rPr>
              <a:t>á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Szociális és állampolgári kompet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felnövekvő generációk szemléletmód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saját élményű tanulá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elelősségteljes é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6633"/>
                </a:solidFill>
                <a:latin typeface="Garamond"/>
              </a:rPr>
              <a:t>Lehetőségek, célo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Új erőforrás a közösségi szolgál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program pedagógiai célj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tanulók tevékenysége nem szakfeladatok ellátása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6633"/>
                </a:solidFill>
                <a:latin typeface="Garamond"/>
              </a:rPr>
              <a:t>Tapasztalatok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Nem készültek előzetes hatásvizsgálat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elkészítést sem a pedagógusok, sem a fogadó szervezetek munkatársai nem kapt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diákok nem mindig azt a tevékenységet végezhetik, amit szeretnén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 közösségi szolgálat sik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6633"/>
                </a:solidFill>
                <a:latin typeface="Garamond"/>
              </a:rPr>
              <a:t>Követelmény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egegyez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gyüttműködési megállapodá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Koordináci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Ütemter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eladat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Elégedettsé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özponti Statisztikai Hivatal Könyvtá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1867 óta működ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900 ezer köt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Köteles példányra jogosult, közművelődési feladatokat ellátó könyvtá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Gyereksarok, pelenkázó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eljes akadálymentesít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2014 első felében 22 könyvtári rendezvé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Havonta új kiállít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Garamond"/>
              </a:rPr>
              <a:t>Baár-Madas Református Gimnáz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Garamond"/>
              </a:rPr>
              <a:t>Móricz Zsigmond Gimnáz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Garamond"/>
              </a:rPr>
              <a:t>II. Rákóczi Ferenc Gimnáz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43000" y="762120"/>
            <a:ext cx="3294000" cy="2189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800600" y="380880"/>
            <a:ext cx="3932280" cy="556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52280" y="32004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no</cp:lastModifiedBy>
  <dcterms:modified xsi:type="dcterms:W3CDTF">2014-07-16T19:18:47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